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3DD-51DE-41AB-825A-73EFD4B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B82-85D8-470A-95F2-E78E8D5C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61F-4B77-4882-A7A3-8ED87E12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C82-3315-4904-A3FD-FA216A18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27A-4AC8-4366-AC53-126BB16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A18-891B-4A16-96D5-1BF0393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F20-8F67-4F3B-85DC-EDB1775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920-71E0-497D-8DFC-35965C02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942-7212-4865-BF5E-D4238AB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15B-6ED9-49BC-A34C-E4BBD02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7F1-9D4F-4442-91D8-108261A4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BB9-EC2A-4FE4-9D1D-D213367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0F90-5949-433D-92A6-AC729C8C8E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rancopho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561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7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friqu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05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mérique du n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1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’Amérique du s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985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70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’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21:07:47Z</dcterms:created>
  <dc:creator>user</dc:creator>
  <dc:description/>
  <dc:language>en-US</dc:language>
  <cp:lastModifiedBy>Ministry of Education</cp:lastModifiedBy>
  <dcterms:modified xsi:type="dcterms:W3CDTF">2009-10-10T07:47:32Z</dcterms:modified>
  <cp:revision>4</cp:revision>
  <dc:subject/>
  <dc:title>La francophonie</dc:title>
</cp:coreProperties>
</file>